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3525-6C13-432F-A768-88135AEE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6A7B-4D67-4C29-8E75-54B17326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4C57-D5E4-4C75-8E4F-60D2F17F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BAD4-FBC8-4911-B8FC-3C780E2F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F19B-044B-4E23-997F-D5CD1E48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F61F-E191-4088-B95A-10E81A18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5E8-C472-49EC-B60B-FACABF64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14B-8306-436D-88AA-2BE78CF9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66C8-01D4-4F89-9013-0D3058BF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894-C5F7-4F87-AB2B-3B0B83A7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F1E3-4F75-4014-8C90-2A7E335A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D8C-319C-4B2F-835C-28587D85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1274-F526-43E3-B5C8-ABD4F24A0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666960" cy="1247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2286000" y="3886200"/>
            <a:ext cx="47433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im Carrey es mi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tí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óm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delg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muy graci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ne ganas de ac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jimcarry"/>
          <p:cNvPicPr/>
          <p:nvPr/>
        </p:nvPicPr>
        <p:blipFill>
          <a:blip r:embed="rId1"/>
          <a:stretch/>
        </p:blipFill>
        <p:spPr>
          <a:xfrm>
            <a:off x="4419720" y="1447920"/>
            <a:ext cx="3827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dra Bullock es me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tí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Bon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al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actuar muy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ene ganas de mode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sandra"/>
          <p:cNvPicPr/>
          <p:nvPr/>
        </p:nvPicPr>
        <p:blipFill>
          <a:blip r:embed="rId1"/>
          <a:stretch/>
        </p:blipFill>
        <p:spPr>
          <a:xfrm>
            <a:off x="685800" y="1752480"/>
            <a:ext cx="34005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o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i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ga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muy 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muy li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muy su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ene ganas de dorm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domino.bmp"/>
          <p:cNvPicPr/>
          <p:nvPr/>
        </p:nvPicPr>
        <p:blipFill>
          <a:blip r:embed="rId1"/>
          <a:stretch/>
        </p:blipFill>
        <p:spPr>
          <a:xfrm>
            <a:off x="4343400" y="1219320"/>
            <a:ext cx="3772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182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n Diesel es mi pad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muy fue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trabaj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l actuar mu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ene ganas de elabor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vin diesel"/>
          <p:cNvPicPr/>
          <p:nvPr/>
        </p:nvPicPr>
        <p:blipFill>
          <a:blip r:embed="rId1"/>
          <a:stretch/>
        </p:blipFill>
        <p:spPr>
          <a:xfrm>
            <a:off x="1143000" y="1523880"/>
            <a:ext cx="310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ina Aguilera es mi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mad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ba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delg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lla canta muy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ene ganas de ca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hristina aguilera"/>
          <p:cNvPicPr/>
          <p:nvPr/>
        </p:nvPicPr>
        <p:blipFill>
          <a:blip r:embed="rId1"/>
          <a:stretch/>
        </p:blipFill>
        <p:spPr>
          <a:xfrm>
            <a:off x="914400" y="1523880"/>
            <a:ext cx="33717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vangeline Lilly es mi herm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rub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ba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jo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lla actuar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ene ganas de c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evangeline lilly"/>
          <p:cNvPicPr/>
          <p:nvPr/>
        </p:nvPicPr>
        <p:blipFill>
          <a:blip r:embed="rId1"/>
          <a:stretch/>
        </p:blipFill>
        <p:spPr>
          <a:xfrm>
            <a:off x="304920" y="1676520"/>
            <a:ext cx="41385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y Heilmann es mi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drin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atlé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lucha mu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ene ganas de lucha mu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troy"/>
          <p:cNvPicPr/>
          <p:nvPr/>
        </p:nvPicPr>
        <p:blipFill>
          <a:blip r:embed="rId1"/>
          <a:stretch/>
        </p:blipFill>
        <p:spPr>
          <a:xfrm>
            <a:off x="4343400" y="1447920"/>
            <a:ext cx="377352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gan Fox es mi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madri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delg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trabajad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actuar muy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ene ganas de ac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fox"/>
          <p:cNvPicPr/>
          <p:nvPr/>
        </p:nvPicPr>
        <p:blipFill>
          <a:blip r:embed="rId1"/>
          <a:stretch/>
        </p:blipFill>
        <p:spPr>
          <a:xfrm>
            <a:off x="990720" y="1523880"/>
            <a:ext cx="3016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ie Andrews es mi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bue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vie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simpá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lla le gusta canta a ve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ene ganas de canta mu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andrews"/>
          <p:cNvPicPr/>
          <p:nvPr/>
        </p:nvPicPr>
        <p:blipFill>
          <a:blip r:embed="rId1"/>
          <a:stretch/>
        </p:blipFill>
        <p:spPr>
          <a:xfrm>
            <a:off x="762120" y="1600200"/>
            <a:ext cx="3403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teve Martin es mi abuel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vie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alt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l es baila mu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ene ganas de contar chis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2" descr="martin"/>
          <p:cNvPicPr/>
          <p:nvPr/>
        </p:nvPicPr>
        <p:blipFill>
          <a:blip r:embed="rId1"/>
          <a:stretch/>
        </p:blipFill>
        <p:spPr>
          <a:xfrm>
            <a:off x="304920" y="1676520"/>
            <a:ext cx="420516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3:13:41Z</dcterms:created>
  <dc:creator>A</dc:creator>
  <dc:description/>
  <dc:language>en-US</dc:language>
  <cp:lastModifiedBy>Danielle</cp:lastModifiedBy>
  <dcterms:modified xsi:type="dcterms:W3CDTF">2010-04-12T02:29:11Z</dcterms:modified>
  <cp:revision>19</cp:revision>
  <dc:subject/>
  <dc:title>Mi Familia</dc:title>
</cp:coreProperties>
</file>